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D976-45DB-4180-B014-97C00F2EF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7560" y="445788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0065-7B0A-4670-AA65-30D9506CE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3964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C2A3-F50E-4E45-A480-81DCBA492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16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756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16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FAFE-AD72-4C4E-8B23-1A976DD29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38D49-7599-4C8B-8D1D-42DE0A196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2D8A0-6445-4C6E-A7E6-2419C065B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0EE29-4F1E-47E9-A649-CE9812963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75387-99B0-466B-847C-00783BE60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73CF8-78BF-4EFE-B7B5-F593B492D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09320" y="1294920"/>
            <a:ext cx="5410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6A263-507A-42A5-9453-CBE92F88B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8D17C-315C-4F37-B007-CECC767B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7E2E-E88C-42AF-9A30-E5A41DE76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964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C8B39-BA77-4CB2-BAB0-46E436B7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7A76F-BC5E-40E2-89E6-0EE49D1E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560" y="445788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B6A5C-7A80-45A1-A31F-05C144DEA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3964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A8409-A153-4300-BDF4-490261259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1816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56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1816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09845-C00C-4A9D-AC86-87A918A9F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34AA-02CB-4720-B2F7-9D3FA377D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1342-FEF6-457B-BD7A-059D3805B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99DF-F9C0-4FB9-B281-905696029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09320" y="1294920"/>
            <a:ext cx="5410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E9C8-4276-4247-82E5-931278406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F761-062A-416A-991F-BB870DF6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964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81E8-7D9F-4714-BCD3-EAA8A6B3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93B9-77FD-4628-90B3-2E0B8D0E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264D2-2C96-42C6-911E-990EDD6866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18288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3276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E8FEF-7112-43E0-9B81-F5802B8548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52480" y="18288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ABC’s of First Aid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249640" y="4191120"/>
            <a:ext cx="5408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: Aubr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600200" y="41148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irw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981080" y="2590560"/>
            <a:ext cx="65534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airway is block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tly roll the person on his or her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 the whole body at o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tly tilt the person’s head back and at the same time and lift up on the chi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86600" y="3049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eath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057400" y="2361960"/>
            <a:ext cx="6477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if the person is brea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, if the person’s chest is rising and then fal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N, for air moving out of the mouth and n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L, for exhaled air on your hand or ch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person is not breathing do CP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162920" y="380880"/>
            <a:ext cx="152388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irc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057400" y="243828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the victim’s carotid pulse on both sides of the ne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re is a puls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continue doing rescue breathing, until the person reviv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re isn’t a puls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eart must be stimulated by someone who is trained in CP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858000" y="2286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f you don’t see any of these signs…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980720" y="2819160"/>
            <a:ext cx="6629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 9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-533520" y="-1295280"/>
            <a:ext cx="10668240" cy="9144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>
            <a:lum bright="-4000"/>
          </a:blip>
          <a:stretch/>
        </p:blipFill>
        <p:spPr>
          <a:xfrm flipH="1">
            <a:off x="990720" y="2438280"/>
            <a:ext cx="5333760" cy="485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3T13:16:51Z</dcterms:created>
  <dc:creator>Kraybill Campus LMS</dc:creator>
  <dc:description/>
  <dc:language>en-US</dc:language>
  <cp:lastModifiedBy>Kraybill Campus LMS</cp:lastModifiedBy>
  <dcterms:modified xsi:type="dcterms:W3CDTF">2011-05-26T15:56:40Z</dcterms:modified>
  <cp:revision>10</cp:revision>
  <dc:subject/>
  <dc:title>PowerPoint Presentation</dc:title>
</cp:coreProperties>
</file>